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43F-5450-4B2B-8717-28C2F79F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F78-3A50-420B-B155-305B688E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76B-659A-412F-8F64-FC0ABEE4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34F-908A-4A87-B37C-12762C9F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A6D-C5C6-48AF-A50C-07C2BD7E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2AA-B7FB-45C0-8D75-428D2383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26A-70C9-43A1-85A4-46E5189A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53F-F9CF-49A1-BA13-95A38AB3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902-1398-4BCB-9653-3513C949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01B-EC4B-4F79-8C52-ED2B5246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539-4D76-4FFF-9484-C0CD8ED8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539-946B-40BD-B83E-C1FCA7D1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ED49-6177-48D9-9657-442D8D810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metric Op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200240"/>
            <a:ext cx="622296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-106200"/>
          <a:ext cx="7696080" cy="70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-106200"/>
                    <a:ext cx="7696080" cy="70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-914400"/>
            <a:ext cx="54374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61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bject inside the focus casts a virtual image that is only focused by the ey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ave Lenses bending toward the normal on an oppositely curved surface (concave) diverges the light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545000" cy="472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81480" y="213372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cusing and Spherical Aber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914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57400" y="4648320"/>
            <a:ext cx="18288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648320"/>
            <a:ext cx="18288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4572000"/>
            <a:ext cx="22860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572000"/>
            <a:ext cx="22860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26708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426708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429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rrors and lenses with circular curvature create spherical aberration, where rays from the top edges of the mirror don’t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herical aberration is corrected by making the lens shape more parabo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omatic Aberr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bends more. This cannot be corrected. You could minimize it it by using less of the lens edges (closing down the aper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0552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74520"/>
            <a:ext cx="7467480" cy="67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23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791320"/>
            <a:ext cx="78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 mirrors produce images that ar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3:53:49Z</dcterms:created>
  <dc:creator>TZ</dc:creator>
  <dc:description/>
  <dc:language>en-US</dc:language>
  <cp:lastModifiedBy>SOCSD</cp:lastModifiedBy>
  <dcterms:modified xsi:type="dcterms:W3CDTF">2009-05-08T12:08:48Z</dcterms:modified>
  <cp:revision>3</cp:revision>
  <dc:subject/>
  <dc:title>Geometric Optics</dc:title>
</cp:coreProperties>
</file>